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5DD-3AD9-41D4-B0DD-E616437AA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224-F8CF-4915-A901-EF0D04181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219-3EFB-4448-81DD-A77A24C5AC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91E-30D0-4068-99C9-B69ADC18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069-F6DA-43DD-8925-D809EF1606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10A-97D8-44A3-8C5E-D5220B27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10:23Z</dcterms:modified>
  <cp:revision>120</cp:revision>
  <dc:subject/>
  <dc:title>PowerPoint Presentation</dc:title>
</cp:coreProperties>
</file>