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B29-9A53-4228-82D4-A7411EA1F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888-94BE-4B8E-9A8C-4E57D328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69D-FF56-4864-BCE6-5BBCD0DDEF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780A-5812-47A6-9BEF-82B7400D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0D62-3731-4A63-8C37-7A36EF60CD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F3F-B1E7-4CD4-9E7E-CD76B896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09:36Z</dcterms:modified>
  <cp:revision>120</cp:revision>
  <dc:subject/>
  <dc:title>PowerPoint Presentation</dc:title>
</cp:coreProperties>
</file>