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C536-083B-4947-9A58-63B2301E3F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4BD6-9594-436F-9332-A67A3FF17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D3A0-29BE-4407-AE74-57B266A4CA6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6A66-63A5-4FA8-9911-D4E05F246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5833-32AC-489F-81F5-F1CF8E86467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0F16-DD19-42F9-BFF9-49F453B46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4-01-22T20:09:01Z</dcterms:modified>
  <cp:revision>120</cp:revision>
  <dc:subject/>
  <dc:title>PowerPoint Presentation</dc:title>
</cp:coreProperties>
</file>