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67DA-DE7D-4B1D-A015-1200CFE93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6986-A2FC-4F9C-ACE3-D94CDCFD0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6080-2086-4DB8-95D6-15C8951C83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E340-4A25-40CE-BCB3-767811EF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00EC-6781-4BA3-8CC3-740E17D2A4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4F29-2F1E-4401-99F4-82FF08E1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4-01-22T20:11:03Z</dcterms:modified>
  <cp:revision>118</cp:revision>
  <dc:subject/>
  <dc:title>PowerPoint Presentation</dc:title>
</cp:coreProperties>
</file>