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B25E-77D7-498D-A28F-CACEA1040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2969-8EE3-48E2-878F-6964FDB2F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76B-5BE4-495B-A828-2B674E37BA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C8D1-DAB7-42CA-BCB3-73AE572B2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1B7-E26B-423E-8F6D-A962FD18E4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1AA-24C8-4585-B454-8557DD84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48:02Z</dcterms:modified>
  <cp:revision>121</cp:revision>
  <dc:subject/>
  <dc:title>PowerPoint Presentation</dc:title>
</cp:coreProperties>
</file>