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C6292-FBB1-49AF-8EBD-0C4CA47100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AD2A4-91C1-47DE-B4CF-3FDB554036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F26B3-B464-4466-B98A-E9779C2529C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D1AAE-FA66-40D4-BC66-C7D5070EE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A180A-EBF4-417E-A06A-83AAA3949C2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2B89C-7AD2-4C29-9643-8F90F45EF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84280" y="395568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84280" y="3955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55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83200" y="153180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82120" y="153180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84280" y="3955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83200" y="3955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82120" y="3955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584280" y="1531800"/>
            <a:ext cx="798192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798192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4280" y="321840"/>
            <a:ext cx="7981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84280" y="3955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84280" y="1531800"/>
            <a:ext cx="798192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55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84280" y="395568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84280" y="395568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84280" y="3955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55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83200" y="153180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82120" y="153180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84280" y="3955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83200" y="3955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82120" y="3955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798192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4280" y="321840"/>
            <a:ext cx="7981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84280" y="3955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55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84280" y="395568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4280" y="1531800"/>
            <a:ext cx="798192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spcBef>
                <a:spcPts val="499"/>
              </a:spcBef>
              <a:buClr>
                <a:srgbClr val="901c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3184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74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392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584280" y="1531800"/>
            <a:ext cx="798192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spcBef>
                <a:spcPts val="499"/>
              </a:spcBef>
              <a:buClr>
                <a:srgbClr val="901c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3184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74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392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696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066680" y="990360"/>
            <a:ext cx="69645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ac2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798192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01c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571680" y="2835000"/>
            <a:ext cx="799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mp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8T17:45:13Z</dcterms:created>
  <dc:creator>Marketing Dept.</dc:creator>
  <dc:description/>
  <dc:language>en-US</dc:language>
  <cp:lastModifiedBy>Chilson, Dawn</cp:lastModifiedBy>
  <cp:lastPrinted>2012-08-21T16:38:07Z</cp:lastPrinted>
  <dcterms:modified xsi:type="dcterms:W3CDTF">2024-01-22T20:49:20Z</dcterms:modified>
  <cp:revision>119</cp:revision>
  <dc:subject/>
  <dc:title>PowerPoint Presentation</dc:title>
</cp:coreProperties>
</file>