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61FA-F375-4B87-9FC1-BC48B9AC1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DB25-3E87-4E6C-AA09-56345B1E5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9F00-15C0-49C1-A301-BFD60862D1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5EB5-29EA-4611-B4FE-E04F9D016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F83E-C584-4A4D-ADED-DF33E5EBC4D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4FBE-E4D0-4097-8240-30ACDDB47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20:48:32Z</dcterms:modified>
  <cp:revision>121</cp:revision>
  <dc:subject/>
  <dc:title>PowerPoint Presentation</dc:title>
</cp:coreProperties>
</file>