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554F-8E83-4BAC-9E29-59D0E2D22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368-A107-47D8-8025-0B86FC47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BA8-CF79-4CFC-A29B-D08AA97D9F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0BD-CA50-4531-BC48-028520EE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F97-5B25-4187-9F17-EB0770031A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03E-810F-4D79-BBCE-BF1C0CB4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48:58Z</dcterms:modified>
  <cp:revision>121</cp:revision>
  <dc:subject/>
  <dc:title>PowerPoint Presentation</dc:title>
</cp:coreProperties>
</file>