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856A-3E5E-4258-BE7F-C4DD2D160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B295-3F6A-4D97-BA0D-082636F8B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43BA-0F24-42F2-AB58-97B7A7DED1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CB3F-B4A0-47B9-AE9B-E52857114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1DE8-E58F-4D90-B9B3-994543DEAC1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CD4B-8BF8-4012-B977-B1C292E33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21:37:11Z</dcterms:modified>
  <cp:revision>117</cp:revision>
  <dc:subject/>
  <dc:title>PowerPoint Presentation</dc:title>
</cp:coreProperties>
</file>