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B02C-B4CF-48B3-AC7F-3D0627240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5B89-7A03-4DD5-B1B1-A7A80A99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C784-6098-4341-AABB-D0B190D072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594-597C-48C2-ADD8-C027AB0D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D9A1-A043-43A9-92BE-9947F294B6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D7CA-9C17-4FE6-A9E8-6E23C9F6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35:44Z</dcterms:modified>
  <cp:revision>119</cp:revision>
  <dc:subject/>
  <dc:title>PowerPoint Presentation</dc:title>
</cp:coreProperties>
</file>