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592-1DBA-4EE8-8E7C-D8674921A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25B9-A637-4ADB-AD28-D24032EE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11C3-CE22-4D73-93F3-14F931FAAAC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9420-F709-4FA9-B13F-E61FF2D4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61DF-CB5B-4711-9153-7068EB7607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9E5A-1615-4949-A061-D213CE32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36:13Z</dcterms:modified>
  <cp:revision>119</cp:revision>
  <dc:subject/>
  <dc:title>PowerPoint Presentation</dc:title>
</cp:coreProperties>
</file>