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C940-D4AF-410A-888A-DCB8737D9C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F402-3998-40C3-A61E-FC4EE23EE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864C-D636-4AF4-B21F-FA2E3124F0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48A6-9B8E-4BF7-A9D0-D00924B6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79EF-3F78-4883-90F0-95EEFAE31F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AC3D-340A-4B9C-9A79-DC0526B6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36:37Z</dcterms:modified>
  <cp:revision>119</cp:revision>
  <dc:subject/>
  <dc:title>PowerPoint Presentation</dc:title>
</cp:coreProperties>
</file>