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A836-C3D3-4EE6-93FB-6912D113E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C2F-9827-4314-93A5-02616C61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9503-F582-4612-B827-9CEECD36FB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FEEA-C8AB-48C5-8522-EF96D2A5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E3D4-D76A-41EA-8EDB-5B1268A28C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A7A5-F0A2-467C-81C8-39F4EBC4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09-13T20:45:41Z</dcterms:modified>
  <cp:revision>116</cp:revision>
  <dc:subject/>
  <dc:title>PowerPoint Presentation</dc:title>
</cp:coreProperties>
</file>