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DAF0-6FCF-4F35-AA06-00D456DD28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1648-3C93-4372-8CF8-A2EF9DEB0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6060-AFB6-4D1B-8E2F-7C9CAA9DCE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E59D-1932-4162-B0A0-A9294F9B1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F85B-3B11-4D86-84CF-9ED80CFD96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A758-2E70-4C9F-BEC2-AD305EE48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3T20:48:59Z</dcterms:modified>
  <cp:revision>118</cp:revision>
  <dc:subject/>
  <dc:title>PowerPoint Presentation</dc:title>
</cp:coreProperties>
</file>