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F9CA-4AFE-4401-A6EF-2A00727DCF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3C63-6A98-4E62-8409-BEAAAB98F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8A12-1A48-4F04-856C-3A0C979FB4C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E8D5-1F48-4A9C-AE1B-674FD0C34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94D3-0B30-4F25-B251-308B647E422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75BE-6765-4D59-AEAE-8BFC3BF7B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09-13T20:47:02Z</dcterms:modified>
  <cp:revision>118</cp:revision>
  <dc:subject/>
  <dc:title>PowerPoint Presentation</dc:title>
</cp:coreProperties>
</file>