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8A9C-EAF9-4917-B087-30FB7F2484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95BB-9A38-4B39-B9BF-E419C564C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FF38-81D2-4845-B941-D8DA7B62112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CE31-8104-4DF6-A004-A60A395A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ABD-CF20-4415-95A7-E02D86AEC6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077-85A3-4FBC-8743-F6ADBBF1F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3T20:49:51Z</dcterms:modified>
  <cp:revision>118</cp:revision>
  <dc:subject/>
  <dc:title>PowerPoint Presentation</dc:title>
</cp:coreProperties>
</file>