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3823-ECFB-4922-A462-690B198507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F9AA-9A80-4020-BFDF-E286BD8DB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F52C-BA9C-4878-8542-AE5F58DED0E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7F07-9167-4FDC-9EB5-A256CBFF4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2619-6AB0-4930-B8F0-85EF5D042DD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1DB0-97BE-4DD8-916F-53DBF62C4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70308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70308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283500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0-19T22:11:35Z</dcterms:modified>
  <cp:revision>119</cp:revision>
  <dc:subject/>
  <dc:title>PowerPoint Presentation</dc:title>
</cp:coreProperties>
</file>