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5BF2-9306-4537-84F1-E70184E8D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65A-CD55-4A6B-ACB8-B71307BE9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AFD-6FD9-48CE-9A06-C0C9257E70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3825-7518-432D-8F17-70C42242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034F-8E0B-45F7-9583-0C731604FC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DC5B-45CB-4C0E-8230-4BBAB3BC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0-19T22:09:31Z</dcterms:modified>
  <cp:revision>117</cp:revision>
  <dc:subject/>
  <dc:title>PowerPoint Presentation</dc:title>
</cp:coreProperties>
</file>