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7599-0A8D-4C59-93B1-7302AC9A8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E330-5384-45A8-983F-FEB772308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1974-1A66-40F1-A307-F8335E60EA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4F5-3273-4FDB-AB99-E2C6AC01D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F2AB-680D-44D1-8B6B-FAA5724D3F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E7DD-BE69-43A9-9C1C-21660B564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22:12:44Z</dcterms:modified>
  <cp:revision>119</cp:revision>
  <dc:subject/>
  <dc:title>PowerPoint Presentation</dc:title>
</cp:coreProperties>
</file>