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B405-ACFE-45D4-BBF5-F1DD48F67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0336-181B-445F-AC3C-1B76BE455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8B10-7D3F-4B2C-86D6-FF7AA515F1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B715-6C4A-405C-9975-69DAA753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AECE-03DE-4E0D-B716-83E3E9E873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789D-D063-4ADC-97C7-90FD4505C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10:58Z</dcterms:modified>
  <cp:revision>119</cp:revision>
  <dc:subject/>
  <dc:title>PowerPoint Presentation</dc:title>
</cp:coreProperties>
</file>