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CD8C-34C5-44C2-B00F-EBEA24C9FA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1F26-0BB6-466D-94EA-7658D43A5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3C68-2D4E-4BE2-9B41-3875C370AA4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CE6F-E00D-43FD-A45A-CA28A2A28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EDEC-C4F0-4F5B-A7F1-AE388D994A9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CF20-168B-4BF9-8FF3-D8D7E1016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21:26:41Z</dcterms:modified>
  <cp:revision>117</cp:revision>
  <dc:subject/>
  <dc:title>PowerPoint Presentation</dc:title>
</cp:coreProperties>
</file>