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1059-B1F6-4CB7-95A2-019E2BAA10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A7DA-B942-4DB5-AC31-47F4DA35C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8C64-063F-4221-9A6F-09A00FDFBDE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2027-5AA8-4ECF-9507-0DAC00621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CF88-3DB7-4BED-B1D8-6B54658B2F8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B6DE-19CA-4950-BA4E-EE33D91D8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70308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70308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99036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283500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11-02T21:26:03Z</dcterms:modified>
  <cp:revision>119</cp:revision>
  <dc:subject/>
  <dc:title>PowerPoint Presentation</dc:title>
</cp:coreProperties>
</file>