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8BB-777A-4023-AFD0-2124386B1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3313-4C9E-42E4-9BA0-27712F402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D178-FF9C-4F1E-B3ED-68FC2DC3DE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42C-1945-4726-BC40-91C9B050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1274-5C56-4702-A8AE-56D8B681E0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D8B-14EB-4F23-BA68-653F66D2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24:24Z</dcterms:modified>
  <cp:revision>119</cp:revision>
  <dc:subject/>
  <dc:title>PowerPoint Presentation</dc:title>
</cp:coreProperties>
</file>