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CD88-33B9-4D52-AB68-787A164D4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5E90-AA22-4476-A510-2C2B20A15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AAA5-8D30-4B9D-BF3C-16323E57222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4C62-B55F-4278-AE7D-3E2C6EB43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268F-DA65-499F-B3AE-E50C90BEEF1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18BB-4791-45A8-A304-5698F82FD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21:25:31Z</dcterms:modified>
  <cp:revision>119</cp:revision>
  <dc:subject/>
  <dc:title>PowerPoint Presentation</dc:title>
</cp:coreProperties>
</file>