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0B3-FFB8-483D-AAD1-88CB594A1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3D5-CD03-4D81-9029-29F5D7B5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4FD4-C769-4D8B-9167-A9489AFCB1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126B-B4A9-4434-99D6-2C1DED7B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C7F-C201-49B5-B5B6-E6B92F75CF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576A-B83B-4BEF-AAAE-8D112A43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49:37Z</dcterms:modified>
  <cp:revision>119</cp:revision>
  <dc:subject/>
  <dc:title>PowerPoint Presentation</dc:title>
</cp:coreProperties>
</file>