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6481-7B97-4590-8A76-A68CD6CE22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0BDE-C7C4-429D-9C8A-7EE3DC172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DDBE-DAD7-4123-9BBE-B1B400B849B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FB17-E5C4-4C27-BDBB-8849B2EB2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5ACB-3F45-4326-A865-CEDB5462BA4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05F0-16EE-472F-9255-44B5DD0A5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0-19T22:50:20Z</dcterms:modified>
  <cp:revision>119</cp:revision>
  <dc:subject/>
  <dc:title>PowerPoint Presentation</dc:title>
</cp:coreProperties>
</file>