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3D56-174F-4F4F-ADB1-72084AFAF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7FD9-5B29-4ED7-A681-6225E8B2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9408-88F9-42A7-AE33-41074A7E2C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0C58-EE94-4A99-B9BA-447C6A80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18BB-D4FF-4304-AE6F-B90EF004A3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D583-0183-4799-B0E1-8E69C3E2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49:04Z</dcterms:modified>
  <cp:revision>119</cp:revision>
  <dc:subject/>
  <dc:title>PowerPoint Presentation</dc:title>
</cp:coreProperties>
</file>