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BE0-69B2-4EA0-8A67-405D4DC8A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871C-BD21-40F2-A41D-BBEC0A8B9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66D2-FB5E-47F0-B2C6-C2F62B31E3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97BD-7FAC-45A5-A1BD-3BE746A5F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341A-B6C5-46D9-AAD9-7BBC3412D3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7F32-9BB4-44EE-98F0-8A5289C0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22:51:03Z</dcterms:modified>
  <cp:revision>117</cp:revision>
  <dc:subject/>
  <dc:title>PowerPoint Presentation</dc:title>
</cp:coreProperties>
</file>