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5AD2-6DAD-4346-BC47-51F82A2C1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C4A-15C4-46F5-A3B8-84640FB9F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5234-C286-4354-B074-74F3D57946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A118-A6CA-484C-BA8E-BE130A98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02F-CC04-4818-B5C8-839DB078B5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FDBE-DFAA-403D-BC98-BE25158F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18:54:10Z</dcterms:modified>
  <cp:revision>119</cp:revision>
  <dc:subject/>
  <dc:title>PowerPoint Presentation</dc:title>
</cp:coreProperties>
</file>