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BCB0-3CAA-432F-95E6-6D0970EE42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B095-AD11-4461-B55E-9478B8942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C201-8E88-4A67-B799-EFAE3EBCC9A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1917-7A8C-466E-8F4C-34BF57A14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E8C5-C9E7-4283-B00A-6F37161E29D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ECA3-CB2A-47D7-B19A-3AFFD809F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4-01-22T18:55:20Z</dcterms:modified>
  <cp:revision>119</cp:revision>
  <dc:subject/>
  <dc:title>PowerPoint Presentation</dc:title>
</cp:coreProperties>
</file>