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F76-D20C-4394-9F2F-15F9BC47C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806-A7EE-4929-A49E-00153906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056-6C73-4ABA-9A30-77F8394A6C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B157-31F2-41BF-8279-E2A377A3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A513-F856-459D-8743-62CC256F43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F3FC-C250-40BA-861E-653CD52B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18:55:46Z</dcterms:modified>
  <cp:revision>117</cp:revision>
  <dc:subject/>
  <dc:title>PowerPoint Presentation</dc:title>
</cp:coreProperties>
</file>