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DB6B-1C85-4A03-8994-166FDB404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A0C4-C2DE-43BC-9AFD-A7F2EEAC2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FFE-800C-4441-A5B7-5FA10C7834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233-A80C-46B5-985F-06C1BCEE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CA9-A8AC-4FA4-B4BA-F4B09C18B2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822-5483-4F89-977B-3A7507DF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18:54:45Z</dcterms:modified>
  <cp:revision>119</cp:revision>
  <dc:subject/>
  <dc:title>PowerPoint Presentation</dc:title>
</cp:coreProperties>
</file>