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5540-2F24-4CFC-8F41-1BB513AAF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FA0A-E290-477F-B8EB-3C5C37A6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A2E-2C35-4D28-BFC7-159B4D7267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EC79-07A2-4E8D-97E2-C15C578E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C047-F0A8-4F98-9F58-A4D2C28A43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A14-C05B-4CDE-A5D0-68A2AA6A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3T18:39:37Z</dcterms:modified>
  <cp:revision>119</cp:revision>
  <dc:subject/>
  <dc:title>PowerPoint Presentation</dc:title>
</cp:coreProperties>
</file>