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B6DF-D32D-4B26-B900-47E9FCF79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6DA6-6D02-446B-9E6B-13AA1059E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80BC-14FD-4675-A293-65FFF37013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9190-C1FB-49C8-81E2-C318C2C3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4FA5-334C-413F-BF4C-1A8B0C32E4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2DCF-9AAA-4704-9F01-20CA4B4D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3T18:41:33Z</dcterms:modified>
  <cp:revision>119</cp:revision>
  <dc:subject/>
  <dc:title>PowerPoint Presentation</dc:title>
</cp:coreProperties>
</file>