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31B56-E8F6-4C9B-B890-8205352C5B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5D677-8A02-4E23-B104-C076BE05F5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9A88E-220C-4393-B324-A57D31AA590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AA62A-BBDD-46CA-A1D0-8D693F64B2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98545-906D-4337-BA1D-D6093CFBAA8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FD900-2CEA-4C2C-B057-2DABE81AF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798192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84280" y="2967120"/>
            <a:ext cx="798192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84280" y="296712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296712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83200" y="114948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82120" y="114948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84280" y="296712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83200" y="296712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82120" y="296712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584280" y="1149480"/>
            <a:ext cx="7981920" cy="34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798192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4280" y="241200"/>
            <a:ext cx="798192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84280" y="296712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84280" y="1149480"/>
            <a:ext cx="7981920" cy="34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296712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84280" y="2967120"/>
            <a:ext cx="798192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798192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84280" y="2967120"/>
            <a:ext cx="798192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84280" y="296712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296712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83200" y="114948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82120" y="114948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84280" y="296712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83200" y="296712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82120" y="296712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798192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4280" y="241200"/>
            <a:ext cx="798192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84280" y="296712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296712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84280" y="2967120"/>
            <a:ext cx="798192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4280" y="1149480"/>
            <a:ext cx="798192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spcBef>
                <a:spcPts val="499"/>
              </a:spcBef>
              <a:buClr>
                <a:srgbClr val="901c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3184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74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392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584280" y="1149480"/>
            <a:ext cx="798192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spcBef>
                <a:spcPts val="499"/>
              </a:spcBef>
              <a:buClr>
                <a:srgbClr val="901c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3184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74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392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520"/>
            <a:ext cx="696456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066680" y="742680"/>
            <a:ext cx="696456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ac2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798192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901c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571680" y="1977480"/>
            <a:ext cx="799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mp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8T17:45:13Z</dcterms:created>
  <dc:creator>Marketing Dept.</dc:creator>
  <dc:description/>
  <dc:language>en-US</dc:language>
  <cp:lastModifiedBy>Chilson, Dawn</cp:lastModifiedBy>
  <cp:lastPrinted>2012-08-21T16:38:07Z</cp:lastPrinted>
  <dcterms:modified xsi:type="dcterms:W3CDTF">2023-10-13T18:40:41Z</dcterms:modified>
  <cp:revision>119</cp:revision>
  <dc:subject/>
  <dc:title>PowerPoint Presentation</dc:title>
</cp:coreProperties>
</file>