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11B6-DBA1-4F72-B103-C987DED4E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9529-1E6C-4ED5-88A9-91F843522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E06A-70A4-4F71-B1EB-A991760D5C6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D737-4D13-4304-B64C-D51054BDB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2EF4-D62C-4A0A-B447-2FDEF1BBFE2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BC91-C6C1-4E67-8A5E-019048A22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0-13T18:42:24Z</dcterms:modified>
  <cp:revision>117</cp:revision>
  <dc:subject/>
  <dc:title>PowerPoint Presentation</dc:title>
</cp:coreProperties>
</file>