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073F-6F57-4C17-9223-21AF98FEB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77CC-E66F-473A-888B-36CDA7F21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11B3-2D3B-4BB9-B72A-8354502982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F690-53BE-45B5-9053-85AE5AF4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0E7-EB42-42CF-B76D-790DFE0C7D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CA0D-D310-453F-9B92-B39AFF185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46:49Z</dcterms:modified>
  <cp:revision>119</cp:revision>
  <dc:subject/>
  <dc:title>PowerPoint Presentation</dc:title>
</cp:coreProperties>
</file>