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C1C-87CB-488B-A2EF-FE9E5E534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A28-5C16-4032-878A-1DF981A57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37AB-0784-469C-859A-32D2B095FB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4F14-CABD-4F44-A899-61FB590E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8764-B078-4E9C-944B-B51B790613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12DF-5DD7-4F7C-B9F3-D942DD0F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47:16Z</dcterms:modified>
  <cp:revision>119</cp:revision>
  <dc:subject/>
  <dc:title>PowerPoint Presentation</dc:title>
</cp:coreProperties>
</file>