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A308-8885-4001-A20B-B28CF01050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754E-87E3-4711-A49E-75320F9C6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047D-4AB7-4383-A507-5CD28A372F8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89CF-19DC-405D-A888-CF1B7BB71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16B6-D937-4EE9-A416-A0C9814CCB5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B97D-BD55-434D-87B7-E40F4EC56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241200"/>
            <a:ext cx="79819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241200"/>
            <a:ext cx="79819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520"/>
            <a:ext cx="696456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742680"/>
            <a:ext cx="69645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197748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1-02T21:47:51Z</dcterms:modified>
  <cp:revision>119</cp:revision>
  <dc:subject/>
  <dc:title>PowerPoint Presentation</dc:title>
</cp:coreProperties>
</file>