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1936-ECA2-4A3D-B14F-44C2C3D670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CCCC-EF83-4BDC-8843-25D1C8510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450D-794A-4920-A586-691EE852C45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1877-285C-444D-B8EF-05BC4D167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5581-F107-4722-BFAE-3DFD1CD4965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C6B9-D156-4AC1-80F2-C69CAC13D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1-02T21:48:27Z</dcterms:modified>
  <cp:revision>117</cp:revision>
  <dc:subject/>
  <dc:title>PowerPoint Presentation</dc:title>
</cp:coreProperties>
</file>