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BD1B-4909-4DB4-99B9-8861349320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CEC6-D254-42BE-AB55-CDF373747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8210-B1A9-483D-BBB9-108AC1D30F2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3093-7BE4-491B-81D0-5B1E62AC6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0493-4557-4DD4-8DD6-BEF67C1E926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D099-0BA0-4C6F-A8D2-FDF10644A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09-15T20:35:27Z</dcterms:modified>
  <cp:revision>119</cp:revision>
  <dc:subject/>
  <dc:title>PowerPoint Presentation</dc:title>
</cp:coreProperties>
</file>