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7B3-783C-4430-9B8E-4B1A88384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5B8-CCBC-40F1-AFCA-870C9ACA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027-87CF-47E5-ABFB-3B0D5B400C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B67-0984-42BA-9639-36E985A3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0F8-BF7D-4F2E-8593-D0A6733BC3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E91-1B2D-4AD9-8C65-DCCACF99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5T20:36:01Z</dcterms:modified>
  <cp:revision>119</cp:revision>
  <dc:subject/>
  <dc:title>PowerPoint Presentation</dc:title>
</cp:coreProperties>
</file>