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81E-4EDB-4C8C-BCB6-D81E52A8D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8B3-5908-42C3-9325-2AADFE0B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D1A3-2ECD-463D-8BAE-030D5780BC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B8AE-A875-4B53-AE6A-018FE727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D7C-1744-4E4A-8DC2-4614B305F1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147-5441-4EC1-868E-71383CB0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5T20:36:49Z</dcterms:modified>
  <cp:revision>119</cp:revision>
  <dc:subject/>
  <dc:title>PowerPoint Presentation</dc:title>
</cp:coreProperties>
</file>