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DE0-A78E-48E7-B929-02B2FF919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8E79-5409-4164-919F-57D7655D1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8CFD-5921-494F-9EC6-FAE23D85D6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9BBB-73B2-41EE-AC73-33B7E5949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B41A-16E7-40C7-A15D-7C0260EC9E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F76F-4BDB-4ED2-8C84-91957FDD8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09-15T20:34:37Z</dcterms:modified>
  <cp:revision>117</cp:revision>
  <dc:subject/>
  <dc:title>PowerPoint Presentation</dc:title>
</cp:coreProperties>
</file>