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A05C-00D1-4B91-93DA-20EF4B0E3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1FF9-3DE1-4596-ACDC-A2FA393C7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8607-0043-478A-BC50-297C1755611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330A-379D-477E-AC1B-53F00574A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1AEB-966A-4F3B-8156-D8655E5DC44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5487-00D6-404A-9256-E7707F205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0-19T18:30:27Z</dcterms:modified>
  <cp:revision>120</cp:revision>
  <dc:subject/>
  <dc:title>PowerPoint Presentation</dc:title>
</cp:coreProperties>
</file>