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3FB6-CE55-4F3E-A803-53D58D121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246A-B94A-42A3-BF68-42D1B57C4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66B6-FD48-4331-AB28-EB1B7D758D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54BF-E55C-4870-B999-B3E7220EC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A1EA-4B89-4A87-AD81-3B13A0A87E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135C-885D-434A-BDF6-B42A7252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18:32:11Z</dcterms:modified>
  <cp:revision>118</cp:revision>
  <dc:subject/>
  <dc:title>PowerPoint Presentation</dc:title>
</cp:coreProperties>
</file>