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4181-CC5D-42EA-AFE7-A7E917954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84CB-1DAE-49C5-8B37-D74788354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7B9C-7F4B-4DD7-924B-40143BFD978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3CC1-589F-4F68-8C5C-8E929F552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A416-89F8-41FB-A8AB-2B05927833E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0509-BBE8-455E-922F-BB2A80FC3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9T18:31:18Z</dcterms:modified>
  <cp:revision>120</cp:revision>
  <dc:subject/>
  <dc:title>PowerPoint Presentation</dc:title>
</cp:coreProperties>
</file>