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541D-307B-4A62-88BF-B925890E7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8DCB-57E8-418D-92A8-FFF216815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669F-B1C8-43B7-97CF-C9BD4FC969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D244-5305-4F88-A5B2-32A88D93C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A740-86CC-4A2D-8015-5F781C4CF20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05EC-BBED-40D3-A4F2-150439B63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9T18:29:54Z</dcterms:modified>
  <cp:revision>120</cp:revision>
  <dc:subject/>
  <dc:title>PowerPoint Presentation</dc:title>
</cp:coreProperties>
</file>