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CE71-5D1A-48A7-ABD4-5011270F1D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B32B-FB9B-448E-BC99-9A676D13F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1FEE-3015-44F4-9D84-DD28D94168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66BE-0186-437E-9955-FA73DF3F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E150-09AC-4DAC-8E51-D768564BE17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545D-6E1B-4631-8AC3-1732C6676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14948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2967120"/>
            <a:ext cx="25700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241200"/>
            <a:ext cx="798192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96712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49480"/>
            <a:ext cx="389484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2967120"/>
            <a:ext cx="7981920" cy="16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520"/>
            <a:ext cx="696456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742680"/>
            <a:ext cx="696456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241200"/>
            <a:ext cx="7981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149480"/>
            <a:ext cx="7981920" cy="34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197748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30:50Z</dcterms:modified>
  <cp:revision>119</cp:revision>
  <dc:subject/>
  <dc:title>PowerPoint Presentation</dc:title>
</cp:coreProperties>
</file>