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0F6-0DE3-442D-8087-9FE47A71EF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2413-CE1F-43AE-B24F-DBC5E2F1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D72F-E1A9-493D-BAAD-FF6DA64BE7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CFA2-B7BD-4635-A1F2-405B1050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666C-9618-44AE-8739-3540F88664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166B-252D-41BF-8353-CDFF817A4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320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82120" y="153180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428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8320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82120" y="3955680"/>
            <a:ext cx="25700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4280" y="321840"/>
            <a:ext cx="7981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5568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31800"/>
            <a:ext cx="389484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4280" y="3955680"/>
            <a:ext cx="7981920" cy="22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01c3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spcBef>
                <a:spcPts val="499"/>
              </a:spcBef>
              <a:buClr>
                <a:srgbClr val="901c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5880" indent="-23184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17460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3920">
              <a:spcBef>
                <a:spcPts val="499"/>
              </a:spcBef>
              <a:buClr>
                <a:srgbClr val="000000"/>
              </a:buClr>
              <a:buFont typeface="Arial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681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990360"/>
            <a:ext cx="69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ac2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4280" y="321840"/>
            <a:ext cx="7981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01c3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4280" y="1531800"/>
            <a:ext cx="79819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01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71680" y="2835000"/>
            <a:ext cx="79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17:45:13Z</dcterms:created>
  <dc:creator>Marketing Dept.</dc:creator>
  <dc:description/>
  <dc:language>en-US</dc:language>
  <cp:lastModifiedBy>Chilson, Dawn</cp:lastModifiedBy>
  <cp:lastPrinted>2012-08-21T16:38:07Z</cp:lastPrinted>
  <dcterms:modified xsi:type="dcterms:W3CDTF">2023-11-02T18:30:15Z</dcterms:modified>
  <cp:revision>117</cp:revision>
  <dc:subject/>
  <dc:title>PowerPoint Presentation</dc:title>
</cp:coreProperties>
</file>