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B9CE-6DE4-4B19-BA49-E9792CAD56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72C9-A1AA-4335-82BB-03DD6653C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53AF-D4C2-4B77-8960-7F4C900BE9A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3E44-FB2E-4C23-A2F6-96130F480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3FE6-9761-49C7-881F-47E22293AA0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6C02-1D12-4AEF-8F68-17F3E1482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70308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912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433656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70308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33656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12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433656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99036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70308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912680"/>
            <a:ext cx="798192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283500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3-11-02T18:31:15Z</dcterms:modified>
  <cp:revision>119</cp:revision>
  <dc:subject/>
  <dc:title>PowerPoint Presentation</dc:title>
</cp:coreProperties>
</file>