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9C226-8AAC-4FC7-9408-51E6B45393C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01c3b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2D068-74B5-4F30-B1FF-468E92E1D9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E8A10-B680-4414-B7D4-C2CCC58B0F9C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831A4-A3C4-4F15-8E85-4D0A6598E3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2978F-C2D0-4864-8885-3B945631B500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DEDCB-447C-4481-AC75-1B431BDF35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84280" y="1434600"/>
            <a:ext cx="798192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84280" y="3252600"/>
            <a:ext cx="798192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84280" y="1434600"/>
            <a:ext cx="38948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434600"/>
            <a:ext cx="38948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84280" y="3252600"/>
            <a:ext cx="38948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252600"/>
            <a:ext cx="38948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84280" y="1434600"/>
            <a:ext cx="25700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83200" y="1434600"/>
            <a:ext cx="25700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82120" y="1434600"/>
            <a:ext cx="25700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84280" y="3252600"/>
            <a:ext cx="25700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83200" y="3252600"/>
            <a:ext cx="25700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82120" y="3252600"/>
            <a:ext cx="25700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584280" y="1434600"/>
            <a:ext cx="7981920" cy="34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84280" y="1434600"/>
            <a:ext cx="7981920" cy="34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84280" y="1434600"/>
            <a:ext cx="3894840" cy="34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434600"/>
            <a:ext cx="3894840" cy="34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84280" y="526680"/>
            <a:ext cx="798192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84280" y="1434600"/>
            <a:ext cx="38948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434600"/>
            <a:ext cx="3894840" cy="34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84280" y="3252600"/>
            <a:ext cx="38948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84280" y="1434600"/>
            <a:ext cx="7981920" cy="34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84280" y="1434600"/>
            <a:ext cx="3894840" cy="34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34600"/>
            <a:ext cx="38948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252600"/>
            <a:ext cx="38948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84280" y="1434600"/>
            <a:ext cx="38948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434600"/>
            <a:ext cx="38948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84280" y="3252600"/>
            <a:ext cx="798192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84280" y="1434600"/>
            <a:ext cx="798192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84280" y="3252600"/>
            <a:ext cx="798192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84280" y="1434600"/>
            <a:ext cx="38948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34600"/>
            <a:ext cx="38948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84280" y="3252600"/>
            <a:ext cx="38948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252600"/>
            <a:ext cx="38948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84280" y="1434600"/>
            <a:ext cx="25700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83200" y="1434600"/>
            <a:ext cx="25700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82120" y="1434600"/>
            <a:ext cx="25700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84280" y="3252600"/>
            <a:ext cx="25700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83200" y="3252600"/>
            <a:ext cx="25700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82120" y="3252600"/>
            <a:ext cx="25700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84280" y="1434600"/>
            <a:ext cx="7981920" cy="34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84280" y="1434600"/>
            <a:ext cx="3894840" cy="34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434600"/>
            <a:ext cx="3894840" cy="34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84280" y="526680"/>
            <a:ext cx="798192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84280" y="1434600"/>
            <a:ext cx="38948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434600"/>
            <a:ext cx="3894840" cy="34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84280" y="3252600"/>
            <a:ext cx="38948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84280" y="1434600"/>
            <a:ext cx="3894840" cy="34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34600"/>
            <a:ext cx="38948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252600"/>
            <a:ext cx="38948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84280" y="1434600"/>
            <a:ext cx="38948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34600"/>
            <a:ext cx="389484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84280" y="3252600"/>
            <a:ext cx="7981920" cy="165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01c3b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84280" y="1434600"/>
            <a:ext cx="7981920" cy="34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69920" indent="-169920">
              <a:spcBef>
                <a:spcPts val="499"/>
              </a:spcBef>
              <a:buClr>
                <a:srgbClr val="901c3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5880" indent="-231840">
              <a:spcBef>
                <a:spcPts val="499"/>
              </a:spcBef>
              <a:buClr>
                <a:srgbClr val="00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174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3920">
              <a:spcBef>
                <a:spcPts val="499"/>
              </a:spcBef>
              <a:buClr>
                <a:srgbClr val="00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01c3b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584280" y="1434600"/>
            <a:ext cx="7981920" cy="34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69920" indent="-169920">
              <a:spcBef>
                <a:spcPts val="499"/>
              </a:spcBef>
              <a:buClr>
                <a:srgbClr val="901c3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5880" indent="-231840">
              <a:spcBef>
                <a:spcPts val="499"/>
              </a:spcBef>
              <a:buClr>
                <a:srgbClr val="00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174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3920">
              <a:spcBef>
                <a:spcPts val="499"/>
              </a:spcBef>
              <a:buClr>
                <a:srgbClr val="00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520"/>
            <a:ext cx="6964560" cy="6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066680" y="742680"/>
            <a:ext cx="696456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ac2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84280" y="526680"/>
            <a:ext cx="79819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84280" y="1434600"/>
            <a:ext cx="7981920" cy="34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901c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571680" y="1977480"/>
            <a:ext cx="799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ampl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c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8T17:45:13Z</dcterms:created>
  <dc:creator>Marketing Dept.</dc:creator>
  <dc:description/>
  <dc:language>en-US</dc:language>
  <cp:lastModifiedBy>Chilson, Dawn</cp:lastModifiedBy>
  <cp:lastPrinted>2012-08-21T16:38:07Z</cp:lastPrinted>
  <dcterms:modified xsi:type="dcterms:W3CDTF">2023-11-02T18:31:39Z</dcterms:modified>
  <cp:revision>119</cp:revision>
  <dc:subject/>
  <dc:title>PowerPoint Presentation</dc:title>
</cp:coreProperties>
</file>