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08F3-FC04-4734-844A-DC66A341B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35B0-673E-4467-AC34-C08ED8C70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11F2-79D8-4A1D-8617-62ED0C35F3A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EAEF-F47A-40A6-BC78-790E3FAFA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8BC0-3C5D-4C78-B3A8-A0DD4F211B0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62E5-C59D-47F7-99AE-4DBC388E1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18:43:04Z</dcterms:modified>
  <cp:revision>119</cp:revision>
  <dc:subject/>
  <dc:title>PowerPoint Presentation</dc:title>
</cp:coreProperties>
</file>