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B519-6159-4304-980C-153D2E847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20F-14D1-4027-97AA-5BA393799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ED9A-48A9-47A2-B05C-2EC3CFB1AD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CF95-4D14-43E4-B18D-BC13E6AA4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F363-E1B9-4A20-A81D-DFEA4D5FE9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EA4C-A418-4DD1-BE04-9FF5F2D9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41:44Z</dcterms:modified>
  <cp:revision>119</cp:revision>
  <dc:subject/>
  <dc:title>PowerPoint Presentation</dc:title>
</cp:coreProperties>
</file>