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0969-8360-487C-B2EF-AE3579A52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2486-69FF-41A0-AFDB-1C76E5F7C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83B1-3724-4CAD-BA81-647510A44E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CE51-FD64-442D-B79C-309E485FD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6CA2-01CD-466F-9734-01F622C8EB5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5E6F-F214-478F-AE47-90C01179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18:42:25Z</dcterms:modified>
  <cp:revision>119</cp:revision>
  <dc:subject/>
  <dc:title>PowerPoint Presentation</dc:title>
</cp:coreProperties>
</file>