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56DC-2009-4864-9C27-94A3EA45A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C6BF-CC57-4C2B-9F45-7647CF92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DC35-267F-48F8-8885-48F1B23897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AA4B-E3C3-4F9D-B3A7-2DED88F3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FBB-DDF5-4839-B432-27ED40664F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82A-119B-4769-AAA9-903FA45E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43:32Z</dcterms:modified>
  <cp:revision>117</cp:revision>
  <dc:subject/>
  <dc:title>PowerPoint Presentation</dc:title>
</cp:coreProperties>
</file>